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830-4FE8-4C60-BC2A-BE9DA82E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C3D-2BCE-4ED1-8746-DAB59A7E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26C-1C38-410D-9E38-23379175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A75-BDE1-4C46-85D7-F0A8E59A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B44-2E9B-4BBE-9201-2EDE948A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98A-A45D-4C5A-B24A-7C5A8E6B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A75-2031-4595-90DD-9E8E0D81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5E7-3D63-4EBD-A659-7232FDAF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ADC-88E3-463E-8EF5-F0639A09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62F-120D-410C-ADA9-EC37548F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556-CA94-4025-A974-D96C2218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AB8-EEDE-413F-A2B3-A4B65740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4BBA-35B2-4543-8D5B-B84C208A4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CTÓNICA      Y      PAI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FACTORES   MAS  IMPORTANTES   QUE   INFLUENCIA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VOLUCIÓN   DEL   PAISAJE    TERRESTR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:    (1)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MPLAZAMIENTO  TECTÓ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2)     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CLI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Y    (3)  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  DE  LA  FORMACIÓN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U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AÑA  PLEGAD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FORMADA  EN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RGEN  DE  PLACA  CONVERGENT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DE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ROSIÓ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JUSTE  ISOSTÁT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UBSECUENTES  A  QUE  ES  SOMETIDA,    Y  QUE  LA   REDUCEN   HASTA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ÍSO   AMPLIO  DE  SUPERFICIE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MUY  PRÓXIMO  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 DEL  M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RELIEVES  LOCALES  EN  UN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DE  MENOS  DE  100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BÁSICAMENTE    DEPENDEN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OSIÓN     DIFERENCI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EN    LAS    ROCA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NEAS     Y  METAMÓR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PAISAJES  DESARROLLADOS  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AFORMA  ESTABLES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N  TAMBIÉN  DE  LA EROSIÓN   DIFERENCIAL,  PERO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OCAS SEDIMENTARI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ORIZONTALES  A  LEVEMENTE 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RENAJE  DENTRÍTIC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  COMÚN   EN  LOS ESTRATOS  HORIZONTALES, DÓNDE     PRODUC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COLIN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DONDEADAS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EST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TÍPIC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LLES   DESPLAZAD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FORMAN   EN  LOS  ESTRATOS  BAJOS  INCLINADOS,   EN  LOS FLANC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OMOS  ESTRUCTU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UENCAS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CTÓNICA      Y      PAISAJE  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  LA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CADENAS  DE MONTAÑAS  PLEGADAS 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PRODUCE  UNA  SERIE  DE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DG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Y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ALLL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,   CONTROLADOS POR   LA    DIRECCIÓN  ESTRUCTURAL  DE  LOS PLIEGUES.   EL 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PAISAJ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S  UN  REFLEJO  DE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FT  CONTINENTAL   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HORST  Y  GRAB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LUVIOS”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BASÁLTICOS :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ICIE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RCOS  MAGMÁTICOS    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A  EROSIÓN  INTENSA  TERMINA  POR  BORRAR  TODO  VESTIGIO  O  RASGO  VOLCÁNICO,   DEJANDO  EXPUESTAS    LAS  RAICES  DE  ROCAS  INTRUSIVAS  PROFUN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1:36:13Z</dcterms:created>
  <dc:creator>Universidad de Chile</dc:creator>
  <dc:description/>
  <dc:language>en-US</dc:language>
  <cp:lastModifiedBy>Universidad de Chile</cp:lastModifiedBy>
  <dcterms:modified xsi:type="dcterms:W3CDTF">2001-06-27T22:33:18Z</dcterms:modified>
  <cp:revision>2</cp:revision>
  <dc:subject/>
  <dc:title>TECTÓNICA      Y      PAISAJE</dc:title>
</cp:coreProperties>
</file>